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png" ContentType="image/png"/>
  <Override PartName="/ppt/media/image8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C60-F0AF-47B5-89FB-8C04CFAC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ктеристике поједини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поузда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но све методе са обележаним антителима (некомпетитивне) с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е вулнерабилне и поузданије од метода са обележаним антиген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M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улнерабилније у погледу ефикасности одвајањ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ирајућег носиоца информација, а то је најчешће еуропијум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 бити критична хемикалија за одваја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u (enhanc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еома вулнерабилне како у погледу микроклиматских у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ијента, тако и у погледу тренутка прекидања инкубациј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аље су методе где је носилац информације радиоактивни изо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с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MA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јпоузданије мет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е су им низак степен комфора у извођењу, зрачење од 12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а могућност исплативог извођења појединачних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8FB-C075-4C31-AD68-E21DB37A41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9B9-C808-4021-8742-31CE763986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3B0-0D56-44F9-9A4E-EF513D0A1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044-BECA-4137-BE5E-DED6DB7AAE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menjuju se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dva tipa izvor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kontinualnog zra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ja: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ermi</a:t>
            </a:r>
            <a:r>
              <a:rPr b="1" lang="sr-Latn-CS" sz="1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ki izvor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) izvori sa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elektr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im pr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jenj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 term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ke izvore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spadaju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lampe 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a zagrevanom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niti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tapi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m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spiral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Zagrev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je naj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 napravljeno od t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topljivih metala (W),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njihovih legura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oksida pojedinih metala.</a:t>
            </a:r>
            <a:r>
              <a:rPr b="1" lang="sr-R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sijana nit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ovih lampi, koje se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pribl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no po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n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ju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kao cr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 emituju kontinualan spektar sa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energetskom raspodelom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koja je odr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na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temperaturom te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9872-3CC7-4A44-AF5F-D347FE56C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0E1-FF7F-4644-A3E9-96D91EC3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F42-A508-47BD-A26C-95E71CFD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07E-4A30-4645-A6FC-B0C60C19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614-86D8-4ED5-9D61-6E169E55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ABC0-DC2D-4455-9868-6C903A24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8B84-51F9-48DF-B64E-9F4E2816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9BA5-A484-4EC3-A86F-5A8B1B17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90A6-550D-482E-83D7-7BC9713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8C3-BCAD-4990-BEBE-244CECE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A67E-2750-439D-A9C0-883220E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379-0C46-4EF6-A90B-80CB47C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6FA-D5BD-4A25-95A2-303EFC7D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ABD-A078-41DD-BA3A-FFACC8F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0E44-76D7-47B2-9634-B0034DD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783C-D1ED-4BAF-ADB2-CCE3E5C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E79-8A17-4E8A-8AFA-B44BDE08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25A-C8B2-49B5-BB95-CD189023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456B-EBF1-4B9F-8533-CFD6C8DC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AA3E-141F-4EAA-8FF1-0CDDCA1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E379-54BB-475E-9B6B-560EE4D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E9F6-A190-4E62-90E3-C954A1C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9665-4CB3-447C-9794-E763317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313-4D62-4C0F-9C28-F7FB5E0D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CA1B-7523-47C4-BC5D-40C719E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B799-F368-4182-9DF9-C5D2C38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79DD-7C3D-4421-A015-8F5A660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58EF-5517-4CB8-A699-43A09A6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AA59-63F9-4EA0-BF81-AE16DB7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D2EF-696D-4076-B286-A4986E58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9922-E579-4444-A8A0-B203F8F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5B40-2A5A-4EDA-B906-4A45D9DE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4675-C24C-49F6-BF81-36C746A2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1B43-0E93-4234-BE20-E4E3E09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99F-B438-4E93-B42F-13F43CBF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7C6F-C0DC-45E4-951E-AA299455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0B12-57A9-4DB6-9152-25BAF22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874E-53FF-4BB4-9889-CA10C17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3B77-895D-4F86-B5BB-599AF11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4A40-8A9C-4BE8-ABCA-F37C7BD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76CA-54C5-4D64-B683-ADDA572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F154-EDC5-4C81-A3A1-6D64F3E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D6DD-487A-4B7B-AD5C-3B799C9C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D733-A94F-4B39-B31C-2041A502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BB49-555C-4921-A1AF-3803345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D60-8C0F-44DD-9C02-AEBBB3B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A266-02FE-4D89-AA19-E5758CA0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90B01-096A-487B-86DA-6E50A39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8305-D5B4-473D-83A9-2682674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70EC2-1139-4220-A64E-3BF922D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4C82-228C-4B02-A935-1753E953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41AB-9B54-40A3-A6FE-0154F16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72DC-7432-4F93-81EC-D3CD240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805A-EC24-4B6C-9617-A3303F2A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6CE8-A378-47EA-BF86-67040583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D2F3-D8E9-4106-AE75-D1C83D0B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86E-17CB-4DBD-9189-AADF425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939C1-B9EC-4925-B3D3-F33B67F9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9126-FFC2-4445-9529-8E38161B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04F2-F124-4621-B1B2-02F6816B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5099-F32F-4F3F-A2EE-939279E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7219-1734-49EA-B432-E2625EBD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10BB-B04C-4CA9-B787-F1525E1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10BD-44D2-4310-A073-616F299F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6B34-A0DC-4984-9892-D03F0F7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F4E9-943E-41B5-86E4-D902DEC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ADA6-E626-4288-95B6-11FDAE9E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630-C110-4F99-9DC0-638EC8F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CEB6-1298-4284-9BCF-DDA491E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0E55-1142-4C77-BEFF-6E84666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D1F8-D2A0-4833-9BBD-13BB7105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E35F-AEDE-4C9E-99A2-B3FF72C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8294-48C1-44F3-939B-1AA2E04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5A6C-C32F-47B1-93B9-569D968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8E3B-115A-45E1-A0CA-862E277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D4B14-D4AE-4A16-B481-B6ED6D2C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3960-481D-4749-BD44-835B747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4FB2A-02B3-4061-AEA3-BE7BBE9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203-8957-4495-A7EB-647384F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76B7-5A4F-4242-82EC-DDDCD212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AAA6-F60F-46CA-9E10-455A486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747A-5A2F-41F3-AB91-13617BC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1612-4489-4204-B7A0-A2BBDE17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A3A3-1F58-490A-BFD9-82F2E2BB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4D76-E6FD-4088-BB20-9A8A6198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A7C6-6C54-45F4-9227-817647A9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21EE-55A5-493E-9213-5C50FD7E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0291-A4C2-4907-B49E-7F725492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4EDA6-9B8F-462A-A404-EBDACCD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E77-B17B-40C5-A1E3-91C4D3A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737E-7E00-4019-AC55-32E84C05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F7BB-B366-4755-96E3-E30518B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8235-81DA-4999-97FB-DC0CA05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BA234-6AF2-432F-85C7-BA1827E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4B4D-D279-4DB7-B867-81BC3E2C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5628-76EC-4AFF-8333-54F6BF19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29284-FC92-4DB8-A4F4-376F15C5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545-A7C0-4460-8B44-B6DC219930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206360" y="2155680"/>
            <a:ext cx="9753840" cy="27720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1206360" y="2144880"/>
            <a:ext cx="303480" cy="2782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97B-6B83-4EB4-9CD8-2239A17C07E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553-2723-438B-BC8D-7E3D630A934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F09-A1E9-423A-9241-51AA2F45287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134-B22B-4FA5-8208-E24425B8A15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7B6-E89D-42A8-8DBF-002E45411E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609480" y="500040"/>
            <a:ext cx="24300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24E-6CEC-41AD-98CC-3A05605EEF3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87422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CF8-598C-4D01-B713-770FB000D8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HPLC_apparatus.sv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en.wikipedia.org/wiki/File:Gas_chromatograph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High_accuracy_Low_precision.svg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upload.wikimedia.org/wikipedia/commons/3/3a/High_precision_Low_accuracy.svg" TargetMode="External"/><Relationship Id="rId4" Type="http://schemas.openxmlformats.org/officeDocument/2006/relationships/image" Target="../media/image33.png"/><Relationship Id="rId5" Type="http://schemas.openxmlformats.org/officeDocument/2006/relationships/hyperlink" Target="http://upload.wikimedia.org/wikipedia/commons/3/38/Accuracy_and_precision.svg" TargetMode="External"/><Relationship Id="rId6" Type="http://schemas.openxmlformats.org/officeDocument/2006/relationships/image" Target="../media/image34.png"/><Relationship Id="rId7" Type="http://schemas.openxmlformats.org/officeDocument/2006/relationships/hyperlink" Target="http://en.wikipedia.org/wiki/Specificity_(tests)" TargetMode="External"/><Relationship Id="rId8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70200" y="5180040"/>
            <a:ext cx="6858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есна Игњатовић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918320" y="522360"/>
            <a:ext cx="247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ИА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Calibri"/>
              </a:rPr>
              <a:t>БИО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550960" y="23353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 ЗА ИСПИТИВАЊЕ БИОЛОШКИХ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ске техник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8" name="Content Placeholder 12" descr=""/>
          <p:cNvPicPr/>
          <p:nvPr/>
        </p:nvPicPr>
        <p:blipFill>
          <a:blip r:embed="rId1"/>
          <a:stretch/>
        </p:blipFill>
        <p:spPr>
          <a:xfrm>
            <a:off x="2263680" y="1971720"/>
            <a:ext cx="76644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72920" y="1216080"/>
            <a:ext cx="1079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1. оптичка или електронска спектроскопија-прелази електрона између молекуларних орбитала, промена структуре електронског омотача; спектри у видљивом и ултраљубичастом подручју (100-7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2. инфрацрвена спинска резонанција-прелази између вибрацијских стања; промена износа електричног диполног момента;спектри у инфрацрвеном подручју (800-100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3. електронска спинска резонанција-прелази између спинских стања електрона у магнетском пољу; промена магнетског спинског момента електрона; спектри у подручју микровалова  (1-1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4. нуклеарна магнетна резонација-прелази између спинских стања језгра у магнетнсом пољу; промена магнетског спинског момента језгра, спектри у подручју радиоталаса ( 1-10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26680" y="1216080"/>
            <a:ext cx="11037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она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ктроскоп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луоресценција-молекули се побуђују ултравиолетним или ласерским зрачењем, релаксацијом у основно стање емитују зрачење у видљивом подручју. Молекули или веће структуре које немају флуорофоре обележавају се ковалнетним везивањем флуоресцентних проб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а: 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ог елемент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олошк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ал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у апсорп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инк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Пост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зуел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удс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електрич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ћелијо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офотометрија: Савршен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шетк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призм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зликова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узет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ску границ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ласн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ли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ре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нствени апсорпцио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јед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ко идентификује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реди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иметрија: Извес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особн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ују светлос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есну 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ова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буђе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и видљив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умини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Флу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ле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лич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и поре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ч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ед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екунд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лте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појачива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8080" y="2755440"/>
            <a:ext cx="939168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ЕТОДЕ ОДРЕЂИВАЊА КОНЦЕНТР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АКТИВНИХ СУПСТАНЦИ У БИОЛОШКОМ МАТЕРИЈАЛУ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27280" y="426672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520560"/>
            <a:ext cx="4864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ИОЛОШКИ АКТИВНЕ СУПСТАНЦ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806120"/>
            <a:ext cx="53895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нзим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укти метаболи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еков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76520" y="1216080"/>
            <a:ext cx="53881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у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иквор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и и екскре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к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н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Freeform 4"/>
          <p:cNvSpPr/>
          <p:nvPr/>
        </p:nvSpPr>
        <p:spPr>
          <a:xfrm>
            <a:off x="5999040" y="1143000"/>
            <a:ext cx="1876680" cy="158760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929200" y="39384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МАТЕРИЈ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File:HPLC apparatu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7720" y="3030480"/>
            <a:ext cx="4905360" cy="219888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"/>
          <p:cNvGrpSpPr/>
          <p:nvPr/>
        </p:nvGrpSpPr>
        <p:grpSpPr>
          <a:xfrm>
            <a:off x="6543720" y="2676600"/>
            <a:ext cx="3905280" cy="2562120"/>
            <a:chOff x="6543720" y="2676600"/>
            <a:chExt cx="3905280" cy="2562120"/>
          </a:xfrm>
        </p:grpSpPr>
        <p:pic>
          <p:nvPicPr>
            <p:cNvPr id="404" name="Picture 2" descr="http://upload.wikimedia.org/wikipedia/commons/thumb/8/87/Gas_chromatograph.png/350px-Gas_chromatograph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98960" y="3263040"/>
              <a:ext cx="3650040" cy="19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543720" y="2676600"/>
              <a:ext cx="3662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МЕТОД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480" y="1463400"/>
            <a:ext cx="10972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имунолошке Анализе (методе сепарације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High Pressure Liquid Chromatography (HPLC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Gass Chromatography (G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Хроматограф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од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дваја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двај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 заступље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о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ико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 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лас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ротн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нденци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једн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дсорпци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ог медију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руг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тварањ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растварач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тич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чврс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шов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ови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пушта 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д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р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вар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бар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ефицијен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поде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кујем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о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оноизмењивачк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рибуциону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пир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е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с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тив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2211120" y="44784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199600" y="1998720"/>
            <a:ext cx="52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мунолош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34760" y="2597040"/>
            <a:ext cx="473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ети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мпетитив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1800360" y="1600200"/>
            <a:ext cx="5922720" cy="2333520"/>
          </a:xfrm>
          <a:custGeom>
            <a:avLst/>
            <a:gdLst>
              <a:gd name="textAreaLeft" fmla="*/ 0 w 5922720"/>
              <a:gd name="textAreaRight" fmla="*/ 5923080 w 592272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435760" y="4311720"/>
            <a:ext cx="59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нзи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do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mol/L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Mo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205720" y="44784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ОБЕЛЕЖИВ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211480" y="1919160"/>
            <a:ext cx="544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2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ел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ан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и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(Eu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, Sm, Dy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уминол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стри акр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5"/>
          <p:cNvSpPr/>
          <p:nvPr/>
        </p:nvSpPr>
        <p:spPr>
          <a:xfrm>
            <a:off x="1816200" y="2048040"/>
            <a:ext cx="298440" cy="28224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5"/>
          <p:cNvSpPr/>
          <p:nvPr/>
        </p:nvSpPr>
        <p:spPr>
          <a:xfrm>
            <a:off x="1797120" y="25527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5"/>
          <p:cNvSpPr/>
          <p:nvPr/>
        </p:nvSpPr>
        <p:spPr>
          <a:xfrm>
            <a:off x="1816200" y="30765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6"/>
          <p:cNvGrpSpPr/>
          <p:nvPr/>
        </p:nvGrpSpPr>
        <p:grpSpPr>
          <a:xfrm>
            <a:off x="7796880" y="1098720"/>
            <a:ext cx="2221920" cy="2430000"/>
            <a:chOff x="7796880" y="1098720"/>
            <a:chExt cx="2221920" cy="2430000"/>
          </a:xfrm>
        </p:grpSpPr>
        <p:sp>
          <p:nvSpPr>
            <p:cNvPr id="421" name="Rectangle 3"/>
            <p:cNvSpPr/>
            <p:nvPr/>
          </p:nvSpPr>
          <p:spPr>
            <a:xfrm>
              <a:off x="7796880" y="1971720"/>
              <a:ext cx="70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9059400" y="1909800"/>
              <a:ext cx="959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R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F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7863120" y="1162080"/>
              <a:ext cx="61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65"/>
            <p:cNvSpPr/>
            <p:nvPr/>
          </p:nvSpPr>
          <p:spPr>
            <a:xfrm>
              <a:off x="8997840" y="11430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9245520" y="1098720"/>
              <a:ext cx="688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65"/>
            <p:cNvSpPr/>
            <p:nvPr/>
          </p:nvSpPr>
          <p:spPr>
            <a:xfrm>
              <a:off x="8105760" y="11844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Основне компоненте оптичких инструменат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687320"/>
            <a:ext cx="10972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ви уређаји за оптичку спектроскопију развијени су за анализу интеракције електромагнетног (ЕМ) зрачења и супстанци у видљивом делу спектра – отуда и назив оптички инструмен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ас оптички инструменти укључују инструменте који користе зрачење ултраљубичастог (УВ) и инфрацрвеног (ИР) дела спектра. Уређаји који се користе у ове три области ЕМ зрачења имају сличне делове, док се уређаји који користе зрачење чија је енергија већа од енергије УВ зрачења или мања од енергије ИР зрачења значајно разликуј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7CFD-EF60-4CFC-A1BC-AE93C451668E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0320" y="341280"/>
            <a:ext cx="8534160" cy="6370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9161640" y="33908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 prize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http://chemeducator.org/bibs/0007002/72012igk_gifs/image002.jpg"/>
          <p:cNvPicPr/>
          <p:nvPr/>
        </p:nvPicPr>
        <p:blipFill>
          <a:blip r:embed="rId2"/>
          <a:stretch/>
        </p:blipFill>
        <p:spPr>
          <a:xfrm>
            <a:off x="9680400" y="341280"/>
            <a:ext cx="2001960" cy="2984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834480" y="3852720"/>
            <a:ext cx="1695600" cy="223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9163080" y="618804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omon B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09480" y="1219320"/>
            <a:ext cx="1097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им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инхибитор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ензимск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нцентровањ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дилуција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дав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актаната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кубац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парациј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чунава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4081320" y="49338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ритична фаза због веће могућ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станка манипулативне гре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МЕТРИЈСКЕ МЕТОД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имунолош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сатурацио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икроаналитич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хни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азира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нцип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међу биолошк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пстанци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лесним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чности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х везујућ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отоп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езив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АНТИТЕЛ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РАНСПОРТ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ШТ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Одређивањ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ређ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ема радиоактивности узор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пруве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ливањ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ш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бележ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mbria"/>
              </a:rPr>
              <a:t>Радиообележивач </a:t>
            </a:r>
            <a:r>
              <a:rPr b="1" lang="en-IN" sz="40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142640"/>
            <a:ext cx="11582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 u="sng">
                <a:solidFill>
                  <a:srgbClr val="000000"/>
                </a:solidFill>
                <a:uFillTx/>
                <a:latin typeface="Gill Sans MT"/>
              </a:rPr>
              <a:t>Iodine-125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ја нискоенергетских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γ−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отон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35.4 keV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соко специфична активн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реме полураспад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6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0 да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Јод је природни састојак тироксина и тријодтиронина. Може се лако увести у молекуле пептида, стероид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Радиоимунолошка мет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5875200" y="385920"/>
            <a:ext cx="5950080" cy="1122120"/>
          </a:xfrm>
          <a:prstGeom prst="rect">
            <a:avLst/>
          </a:prstGeom>
          <a:ln w="0">
            <a:noFill/>
          </a:ln>
        </p:spPr>
      </p:pic>
      <p:pic>
        <p:nvPicPr>
          <p:cNvPr id="441" name="Content Placeholder 8" descr=""/>
          <p:cNvPicPr/>
          <p:nvPr/>
        </p:nvPicPr>
        <p:blipFill>
          <a:blip r:embed="rId2"/>
          <a:stretch/>
        </p:blipFill>
        <p:spPr>
          <a:xfrm>
            <a:off x="285840" y="1638360"/>
            <a:ext cx="79628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радиометријска метод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7539120" y="279360"/>
            <a:ext cx="3579840" cy="1073160"/>
          </a:xfrm>
          <a:prstGeom prst="rect">
            <a:avLst/>
          </a:prstGeom>
          <a:ln w="0">
            <a:noFill/>
          </a:ln>
        </p:spPr>
      </p:pic>
      <p:pic>
        <p:nvPicPr>
          <p:cNvPr id="444" name="Content Placeholder 6" descr=""/>
          <p:cNvPicPr/>
          <p:nvPr/>
        </p:nvPicPr>
        <p:blipFill>
          <a:blip r:embed="rId2"/>
          <a:stretch/>
        </p:blipFill>
        <p:spPr>
          <a:xfrm>
            <a:off x="378000" y="1477800"/>
            <a:ext cx="7561080" cy="4943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8804160" y="2583000"/>
            <a:ext cx="26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ење обележеног аналита, обично антитела, је директно пропорционално количини антигена присутног у узорку- што је више антигена присутно, више обележено г антитела ће се вез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7599240" y="1330200"/>
            <a:ext cx="2741760" cy="3656160"/>
            <a:chOff x="7599240" y="1330200"/>
            <a:chExt cx="2741760" cy="3656160"/>
          </a:xfrm>
        </p:grpSpPr>
        <p:sp>
          <p:nvSpPr>
            <p:cNvPr id="447" name="Line 3"/>
            <p:cNvSpPr/>
            <p:nvPr/>
          </p:nvSpPr>
          <p:spPr>
            <a:xfrm>
              <a:off x="7913160" y="249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" descr="Picture4"/>
            <p:cNvPicPr/>
            <p:nvPr/>
          </p:nvPicPr>
          <p:blipFill>
            <a:blip r:embed="rId1"/>
            <a:stretch/>
          </p:blipFill>
          <p:spPr>
            <a:xfrm>
              <a:off x="7599240" y="29383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Picture4"/>
            <p:cNvPicPr/>
            <p:nvPr/>
          </p:nvPicPr>
          <p:blipFill>
            <a:blip r:embed="rId2"/>
            <a:stretch/>
          </p:blipFill>
          <p:spPr>
            <a:xfrm>
              <a:off x="7599240" y="4512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Picture4"/>
            <p:cNvPicPr/>
            <p:nvPr/>
          </p:nvPicPr>
          <p:blipFill>
            <a:blip r:embed="rId3"/>
            <a:stretch/>
          </p:blipFill>
          <p:spPr>
            <a:xfrm>
              <a:off x="7599240" y="3288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7" descr="Picture4"/>
            <p:cNvPicPr/>
            <p:nvPr/>
          </p:nvPicPr>
          <p:blipFill>
            <a:blip r:embed="rId4"/>
            <a:stretch/>
          </p:blipFill>
          <p:spPr>
            <a:xfrm>
              <a:off x="7599240" y="360504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" descr="Picture4"/>
            <p:cNvPicPr/>
            <p:nvPr/>
          </p:nvPicPr>
          <p:blipFill>
            <a:blip r:embed="rId5"/>
            <a:stretch/>
          </p:blipFill>
          <p:spPr>
            <a:xfrm>
              <a:off x="7599240" y="38811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9" descr="Picture4"/>
            <p:cNvPicPr/>
            <p:nvPr/>
          </p:nvPicPr>
          <p:blipFill>
            <a:blip r:embed="rId6"/>
            <a:stretch/>
          </p:blipFill>
          <p:spPr>
            <a:xfrm>
              <a:off x="7599240" y="42361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10"/>
            <p:cNvSpPr/>
            <p:nvPr/>
          </p:nvSpPr>
          <p:spPr>
            <a:xfrm>
              <a:off x="7823880" y="3605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767440" y="2577960"/>
              <a:ext cx="258120" cy="320400"/>
              <a:chOff x="8767440" y="2577960"/>
              <a:chExt cx="258120" cy="320400"/>
            </a:xfrm>
          </p:grpSpPr>
          <p:sp>
            <p:nvSpPr>
              <p:cNvPr id="456" name="AutoShape 12"/>
              <p:cNvSpPr/>
              <p:nvPr/>
            </p:nvSpPr>
            <p:spPr>
              <a:xfrm>
                <a:off x="8807040" y="27792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3" descr="Picture4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8738640" y="2606760"/>
                <a:ext cx="315720" cy="25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Picture 14" descr="Picture4"/>
            <p:cNvPicPr/>
            <p:nvPr/>
          </p:nvPicPr>
          <p:blipFill>
            <a:blip r:embed="rId8"/>
            <a:stretch/>
          </p:blipFill>
          <p:spPr>
            <a:xfrm>
              <a:off x="7599240" y="269640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15"/>
            <p:cNvSpPr/>
            <p:nvPr/>
          </p:nvSpPr>
          <p:spPr>
            <a:xfrm>
              <a:off x="7823880" y="26964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6"/>
            <p:cNvGrpSpPr/>
            <p:nvPr/>
          </p:nvGrpSpPr>
          <p:grpSpPr>
            <a:xfrm>
              <a:off x="8857800" y="3723480"/>
              <a:ext cx="258480" cy="315720"/>
              <a:chOff x="8857800" y="3723480"/>
              <a:chExt cx="258480" cy="315720"/>
            </a:xfrm>
          </p:grpSpPr>
          <p:pic>
            <p:nvPicPr>
              <p:cNvPr id="461" name="Picture 17" descr="Picture4"/>
              <p:cNvPicPr/>
              <p:nvPr/>
            </p:nvPicPr>
            <p:blipFill>
              <a:blip r:embed="rId9"/>
              <a:stretch/>
            </p:blipFill>
            <p:spPr>
              <a:xfrm rot="5400000">
                <a:off x="882900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AutoShape 18"/>
              <p:cNvSpPr/>
              <p:nvPr/>
            </p:nvSpPr>
            <p:spPr>
              <a:xfrm>
                <a:off x="89024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8003520" y="3604680"/>
              <a:ext cx="403560" cy="227160"/>
              <a:chOff x="8003520" y="3604680"/>
              <a:chExt cx="403560" cy="227160"/>
            </a:xfrm>
          </p:grpSpPr>
          <p:pic>
            <p:nvPicPr>
              <p:cNvPr id="464" name="Picture 20" descr="Picture4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003520" y="3604680"/>
                <a:ext cx="3628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AutoShape 21"/>
              <p:cNvSpPr/>
              <p:nvPr/>
            </p:nvSpPr>
            <p:spPr>
              <a:xfrm>
                <a:off x="8229240" y="364464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20" y="3796"/>
                    </a:lnTo>
                    <a:lnTo>
                      <a:pt x="5000" y="0"/>
                    </a:lnTo>
                    <a:lnTo>
                      <a:pt x="6180" y="3796"/>
                    </a:lnTo>
                    <a:lnTo>
                      <a:pt x="10000" y="3796"/>
                    </a:lnTo>
                    <a:lnTo>
                      <a:pt x="6910" y="6204"/>
                    </a:lnTo>
                    <a:lnTo>
                      <a:pt x="8090" y="10000"/>
                    </a:lnTo>
                    <a:lnTo>
                      <a:pt x="5000" y="7664"/>
                    </a:lnTo>
                    <a:lnTo>
                      <a:pt x="1910" y="10000"/>
                    </a:lnTo>
                    <a:lnTo>
                      <a:pt x="3090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9756360" y="3723480"/>
              <a:ext cx="258480" cy="315720"/>
              <a:chOff x="9756360" y="3723480"/>
              <a:chExt cx="258480" cy="315720"/>
            </a:xfrm>
          </p:grpSpPr>
          <p:pic>
            <p:nvPicPr>
              <p:cNvPr id="467" name="Picture 23" descr="Picture4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972756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AutoShape 24"/>
              <p:cNvSpPr/>
              <p:nvPr/>
            </p:nvSpPr>
            <p:spPr>
              <a:xfrm>
                <a:off x="98006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5"/>
            <p:cNvGrpSpPr/>
            <p:nvPr/>
          </p:nvGrpSpPr>
          <p:grpSpPr>
            <a:xfrm>
              <a:off x="9621720" y="4473360"/>
              <a:ext cx="258480" cy="354960"/>
              <a:chOff x="9621720" y="4473360"/>
              <a:chExt cx="258480" cy="354960"/>
            </a:xfrm>
          </p:grpSpPr>
          <p:pic>
            <p:nvPicPr>
              <p:cNvPr id="470" name="Picture 26" descr="Picture4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9594360" y="4500360"/>
                <a:ext cx="31284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AutoShape 27"/>
              <p:cNvSpPr/>
              <p:nvPr/>
            </p:nvSpPr>
            <p:spPr>
              <a:xfrm>
                <a:off x="9668160" y="4708080"/>
                <a:ext cx="179280" cy="120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86"/>
                    </a:moveTo>
                    <a:lnTo>
                      <a:pt x="3812" y="3786"/>
                    </a:lnTo>
                    <a:lnTo>
                      <a:pt x="5028" y="0"/>
                    </a:lnTo>
                    <a:lnTo>
                      <a:pt x="6188" y="3786"/>
                    </a:lnTo>
                    <a:lnTo>
                      <a:pt x="10000" y="3786"/>
                    </a:lnTo>
                    <a:lnTo>
                      <a:pt x="6906" y="6214"/>
                    </a:lnTo>
                    <a:lnTo>
                      <a:pt x="8066" y="10000"/>
                    </a:lnTo>
                    <a:lnTo>
                      <a:pt x="5028" y="7643"/>
                    </a:lnTo>
                    <a:lnTo>
                      <a:pt x="1934" y="10000"/>
                    </a:lnTo>
                    <a:lnTo>
                      <a:pt x="3094" y="6214"/>
                    </a:lnTo>
                    <a:lnTo>
                      <a:pt x="0" y="37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8"/>
            <p:cNvSpPr/>
            <p:nvPr/>
          </p:nvSpPr>
          <p:spPr>
            <a:xfrm>
              <a:off x="8992440" y="435456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9"/>
            <p:cNvSpPr/>
            <p:nvPr/>
          </p:nvSpPr>
          <p:spPr>
            <a:xfrm>
              <a:off x="7823880" y="45129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"/>
            <p:cNvSpPr/>
            <p:nvPr/>
          </p:nvSpPr>
          <p:spPr>
            <a:xfrm>
              <a:off x="9396720" y="368352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1"/>
            <p:cNvSpPr/>
            <p:nvPr/>
          </p:nvSpPr>
          <p:spPr>
            <a:xfrm>
              <a:off x="9577080" y="28548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2"/>
            <p:cNvGrpSpPr/>
            <p:nvPr/>
          </p:nvGrpSpPr>
          <p:grpSpPr>
            <a:xfrm>
              <a:off x="7599240" y="1330200"/>
              <a:ext cx="2741760" cy="3656160"/>
              <a:chOff x="7599240" y="1330200"/>
              <a:chExt cx="2741760" cy="3656160"/>
            </a:xfrm>
          </p:grpSpPr>
          <p:sp>
            <p:nvSpPr>
              <p:cNvPr id="477" name="Rectangle 33"/>
              <p:cNvSpPr/>
              <p:nvPr/>
            </p:nvSpPr>
            <p:spPr>
              <a:xfrm>
                <a:off x="7599240" y="1330200"/>
                <a:ext cx="2741760" cy="365616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4"/>
              <p:cNvSpPr/>
              <p:nvPr/>
            </p:nvSpPr>
            <p:spPr>
              <a:xfrm>
                <a:off x="7599240" y="2396160"/>
                <a:ext cx="2741760" cy="25898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35"/>
            <p:cNvSpPr/>
            <p:nvPr/>
          </p:nvSpPr>
          <p:spPr>
            <a:xfrm>
              <a:off x="7823160" y="33040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6"/>
            <p:cNvGrpSpPr/>
            <p:nvPr/>
          </p:nvGrpSpPr>
          <p:grpSpPr>
            <a:xfrm>
              <a:off x="7958880" y="2696040"/>
              <a:ext cx="403560" cy="227160"/>
              <a:chOff x="7958880" y="2696040"/>
              <a:chExt cx="403560" cy="227160"/>
            </a:xfrm>
          </p:grpSpPr>
          <p:pic>
            <p:nvPicPr>
              <p:cNvPr id="481" name="Picture 37" descr="Picture4"/>
              <p:cNvPicPr/>
              <p:nvPr/>
            </p:nvPicPr>
            <p:blipFill>
              <a:blip r:embed="rId13"/>
              <a:stretch/>
            </p:blipFill>
            <p:spPr>
              <a:xfrm rot="10800000">
                <a:off x="7958880" y="269604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AutoShape 38"/>
              <p:cNvSpPr/>
              <p:nvPr/>
            </p:nvSpPr>
            <p:spPr>
              <a:xfrm>
                <a:off x="8183520" y="27360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9"/>
            <p:cNvGrpSpPr/>
            <p:nvPr/>
          </p:nvGrpSpPr>
          <p:grpSpPr>
            <a:xfrm>
              <a:off x="7958880" y="4512600"/>
              <a:ext cx="403560" cy="227160"/>
              <a:chOff x="7958880" y="4512600"/>
              <a:chExt cx="403560" cy="227160"/>
            </a:xfrm>
          </p:grpSpPr>
          <p:pic>
            <p:nvPicPr>
              <p:cNvPr id="484" name="Picture 40" descr="Picture4"/>
              <p:cNvPicPr/>
              <p:nvPr/>
            </p:nvPicPr>
            <p:blipFill>
              <a:blip r:embed="rId14"/>
              <a:stretch/>
            </p:blipFill>
            <p:spPr>
              <a:xfrm rot="10800000">
                <a:off x="7958880" y="451260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AutoShape 41"/>
              <p:cNvSpPr/>
              <p:nvPr/>
            </p:nvSpPr>
            <p:spPr>
              <a:xfrm>
                <a:off x="8183520" y="455256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AutoShape 35"/>
            <p:cNvSpPr/>
            <p:nvPr/>
          </p:nvSpPr>
          <p:spPr>
            <a:xfrm>
              <a:off x="8843760" y="32716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5"/>
            <p:cNvSpPr/>
            <p:nvPr/>
          </p:nvSpPr>
          <p:spPr>
            <a:xfrm>
              <a:off x="7823160" y="42501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5"/>
            <p:cNvSpPr/>
            <p:nvPr/>
          </p:nvSpPr>
          <p:spPr>
            <a:xfrm>
              <a:off x="8546400" y="4091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5"/>
            <p:cNvSpPr/>
            <p:nvPr/>
          </p:nvSpPr>
          <p:spPr>
            <a:xfrm>
              <a:off x="8493120" y="306972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2"/>
          <p:cNvSpPr/>
          <p:nvPr/>
        </p:nvSpPr>
        <p:spPr>
          <a:xfrm>
            <a:off x="7709760" y="765000"/>
            <a:ext cx="22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3"/>
          <p:cNvSpPr/>
          <p:nvPr/>
        </p:nvSpPr>
        <p:spPr>
          <a:xfrm>
            <a:off x="1942200" y="692280"/>
            <a:ext cx="38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88"/>
          <p:cNvGrpSpPr/>
          <p:nvPr/>
        </p:nvGrpSpPr>
        <p:grpSpPr>
          <a:xfrm>
            <a:off x="2082960" y="733320"/>
            <a:ext cx="7727760" cy="4335480"/>
            <a:chOff x="2082960" y="733320"/>
            <a:chExt cx="7727760" cy="4335480"/>
          </a:xfrm>
        </p:grpSpPr>
        <p:pic>
          <p:nvPicPr>
            <p:cNvPr id="493" name="Picture 46" descr="Picture4"/>
            <p:cNvPicPr/>
            <p:nvPr/>
          </p:nvPicPr>
          <p:blipFill>
            <a:blip r:embed="rId15"/>
            <a:stretch/>
          </p:blipFill>
          <p:spPr>
            <a:xfrm>
              <a:off x="2270160" y="2917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7" descr="Picture4"/>
            <p:cNvPicPr/>
            <p:nvPr/>
          </p:nvPicPr>
          <p:blipFill>
            <a:blip r:embed="rId16"/>
            <a:stretch/>
          </p:blipFill>
          <p:spPr>
            <a:xfrm>
              <a:off x="2270160" y="44920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8" descr="Picture4"/>
            <p:cNvPicPr/>
            <p:nvPr/>
          </p:nvPicPr>
          <p:blipFill>
            <a:blip r:embed="rId17"/>
            <a:stretch/>
          </p:blipFill>
          <p:spPr>
            <a:xfrm>
              <a:off x="2270160" y="3268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9" descr="Picture4"/>
            <p:cNvPicPr/>
            <p:nvPr/>
          </p:nvPicPr>
          <p:blipFill>
            <a:blip r:embed="rId18"/>
            <a:stretch/>
          </p:blipFill>
          <p:spPr>
            <a:xfrm>
              <a:off x="2270160" y="358416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0" descr="Picture4"/>
            <p:cNvPicPr/>
            <p:nvPr/>
          </p:nvPicPr>
          <p:blipFill>
            <a:blip r:embed="rId19"/>
            <a:stretch/>
          </p:blipFill>
          <p:spPr>
            <a:xfrm>
              <a:off x="2270160" y="38602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52" descr="Picture4"/>
            <p:cNvPicPr/>
            <p:nvPr/>
          </p:nvPicPr>
          <p:blipFill>
            <a:blip r:embed="rId20"/>
            <a:stretch/>
          </p:blipFill>
          <p:spPr>
            <a:xfrm>
              <a:off x="2270160" y="42152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8" descr="Picture4"/>
            <p:cNvPicPr/>
            <p:nvPr/>
          </p:nvPicPr>
          <p:blipFill>
            <a:blip r:embed="rId21"/>
            <a:stretch/>
          </p:blipFill>
          <p:spPr>
            <a:xfrm>
              <a:off x="2270160" y="267552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Group 87"/>
            <p:cNvGrpSpPr/>
            <p:nvPr/>
          </p:nvGrpSpPr>
          <p:grpSpPr>
            <a:xfrm>
              <a:off x="2257200" y="1413000"/>
              <a:ext cx="2754360" cy="3655800"/>
              <a:chOff x="2257200" y="1413000"/>
              <a:chExt cx="2754360" cy="3655800"/>
            </a:xfrm>
          </p:grpSpPr>
          <p:sp>
            <p:nvSpPr>
              <p:cNvPr id="501" name="Rectangle 60"/>
              <p:cNvSpPr/>
              <p:nvPr/>
            </p:nvSpPr>
            <p:spPr>
              <a:xfrm>
                <a:off x="2269800" y="1413000"/>
                <a:ext cx="2741760" cy="365580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1"/>
              <p:cNvSpPr/>
              <p:nvPr/>
            </p:nvSpPr>
            <p:spPr>
              <a:xfrm>
                <a:off x="2257200" y="2390760"/>
                <a:ext cx="2754360" cy="26780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86"/>
            <p:cNvGrpSpPr/>
            <p:nvPr/>
          </p:nvGrpSpPr>
          <p:grpSpPr>
            <a:xfrm>
              <a:off x="2082960" y="733320"/>
              <a:ext cx="7727760" cy="4035240"/>
              <a:chOff x="2082960" y="733320"/>
              <a:chExt cx="7727760" cy="4035240"/>
            </a:xfrm>
          </p:grpSpPr>
          <p:sp>
            <p:nvSpPr>
              <p:cNvPr id="504" name="Line 45"/>
              <p:cNvSpPr/>
              <p:nvPr/>
            </p:nvSpPr>
            <p:spPr>
              <a:xfrm>
                <a:off x="2584080" y="2478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Picture 51" descr="Picture4"/>
              <p:cNvPicPr/>
              <p:nvPr/>
            </p:nvPicPr>
            <p:blipFill>
              <a:blip r:embed="rId22"/>
              <a:stretch/>
            </p:blipFill>
            <p:spPr>
              <a:xfrm>
                <a:off x="2539440" y="275472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53" descr="Picture4"/>
              <p:cNvPicPr/>
              <p:nvPr/>
            </p:nvPicPr>
            <p:blipFill>
              <a:blip r:embed="rId23"/>
              <a:stretch/>
            </p:blipFill>
            <p:spPr>
              <a:xfrm>
                <a:off x="3213360" y="35049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7" name="Group 54"/>
              <p:cNvGrpSpPr/>
              <p:nvPr/>
            </p:nvGrpSpPr>
            <p:grpSpPr>
              <a:xfrm>
                <a:off x="2764440" y="2754720"/>
                <a:ext cx="269280" cy="197280"/>
                <a:chOff x="2764440" y="2754720"/>
                <a:chExt cx="269280" cy="197280"/>
              </a:xfrm>
            </p:grpSpPr>
            <p:sp>
              <p:nvSpPr>
                <p:cNvPr id="508" name="AutoShape 55"/>
                <p:cNvSpPr/>
                <p:nvPr/>
              </p:nvSpPr>
              <p:spPr>
                <a:xfrm>
                  <a:off x="276444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56"/>
                <p:cNvSpPr/>
                <p:nvPr/>
              </p:nvSpPr>
              <p:spPr>
                <a:xfrm>
                  <a:off x="2808000" y="2797920"/>
                  <a:ext cx="17928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12" y="3817"/>
                      </a:lnTo>
                      <a:lnTo>
                        <a:pt x="5028" y="0"/>
                      </a:lnTo>
                      <a:lnTo>
                        <a:pt x="6188" y="3817"/>
                      </a:lnTo>
                      <a:lnTo>
                        <a:pt x="10000" y="3817"/>
                      </a:lnTo>
                      <a:lnTo>
                        <a:pt x="6906" y="6183"/>
                      </a:lnTo>
                      <a:lnTo>
                        <a:pt x="8066" y="10000"/>
                      </a:lnTo>
                      <a:lnTo>
                        <a:pt x="5028" y="7634"/>
                      </a:lnTo>
                      <a:lnTo>
                        <a:pt x="1934" y="10000"/>
                      </a:lnTo>
                      <a:lnTo>
                        <a:pt x="3094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0" name="Picture 57" descr="Picture4"/>
              <p:cNvPicPr/>
              <p:nvPr/>
            </p:nvPicPr>
            <p:blipFill>
              <a:blip r:embed="rId24"/>
              <a:stretch/>
            </p:blipFill>
            <p:spPr>
              <a:xfrm>
                <a:off x="3798000" y="271584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AutoShape 62"/>
              <p:cNvSpPr/>
              <p:nvPr/>
            </p:nvSpPr>
            <p:spPr>
              <a:xfrm>
                <a:off x="4517280" y="374184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Group 63"/>
              <p:cNvGrpSpPr/>
              <p:nvPr/>
            </p:nvGrpSpPr>
            <p:grpSpPr>
              <a:xfrm>
                <a:off x="2082960" y="733320"/>
                <a:ext cx="7727760" cy="2218680"/>
                <a:chOff x="2082960" y="733320"/>
                <a:chExt cx="7727760" cy="2218680"/>
              </a:xfrm>
            </p:grpSpPr>
            <p:sp>
              <p:nvSpPr>
                <p:cNvPr id="513" name="AutoShape 64"/>
                <p:cNvSpPr/>
                <p:nvPr/>
              </p:nvSpPr>
              <p:spPr>
                <a:xfrm>
                  <a:off x="343836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65"/>
                <p:cNvSpPr/>
                <p:nvPr/>
              </p:nvSpPr>
              <p:spPr>
                <a:xfrm>
                  <a:off x="3483000" y="2798280"/>
                  <a:ext cx="17604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20" y="3817"/>
                      </a:lnTo>
                      <a:lnTo>
                        <a:pt x="5000" y="0"/>
                      </a:lnTo>
                      <a:lnTo>
                        <a:pt x="6180" y="3817"/>
                      </a:lnTo>
                      <a:lnTo>
                        <a:pt x="10000" y="3817"/>
                      </a:lnTo>
                      <a:lnTo>
                        <a:pt x="6910" y="6183"/>
                      </a:lnTo>
                      <a:lnTo>
                        <a:pt x="8090" y="10000"/>
                      </a:lnTo>
                      <a:lnTo>
                        <a:pt x="5000" y="7634"/>
                      </a:lnTo>
                      <a:lnTo>
                        <a:pt x="1910" y="10000"/>
                      </a:lnTo>
                      <a:lnTo>
                        <a:pt x="3090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65"/>
                <p:cNvSpPr/>
                <p:nvPr/>
              </p:nvSpPr>
              <p:spPr>
                <a:xfrm>
                  <a:off x="2082960" y="733320"/>
                  <a:ext cx="23184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65"/>
                <p:cNvSpPr/>
                <p:nvPr/>
              </p:nvSpPr>
              <p:spPr>
                <a:xfrm>
                  <a:off x="4073760" y="790560"/>
                  <a:ext cx="23148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65"/>
                <p:cNvSpPr/>
                <p:nvPr/>
              </p:nvSpPr>
              <p:spPr>
                <a:xfrm>
                  <a:off x="8445240" y="83736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65"/>
                <p:cNvSpPr/>
                <p:nvPr/>
              </p:nvSpPr>
              <p:spPr>
                <a:xfrm>
                  <a:off x="9578880" y="82800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66"/>
              <p:cNvGrpSpPr/>
              <p:nvPr/>
            </p:nvGrpSpPr>
            <p:grpSpPr>
              <a:xfrm>
                <a:off x="3798000" y="3939480"/>
                <a:ext cx="269280" cy="197280"/>
                <a:chOff x="3798000" y="3939480"/>
                <a:chExt cx="269280" cy="197280"/>
              </a:xfrm>
            </p:grpSpPr>
            <p:sp>
              <p:nvSpPr>
                <p:cNvPr id="520" name="AutoShape 67"/>
                <p:cNvSpPr/>
                <p:nvPr/>
              </p:nvSpPr>
              <p:spPr>
                <a:xfrm>
                  <a:off x="3798000" y="393948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AutoShape 68"/>
                <p:cNvSpPr/>
                <p:nvPr/>
              </p:nvSpPr>
              <p:spPr>
                <a:xfrm>
                  <a:off x="3841560" y="3980880"/>
                  <a:ext cx="17928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12" y="3835"/>
                      </a:lnTo>
                      <a:lnTo>
                        <a:pt x="5028" y="0"/>
                      </a:lnTo>
                      <a:lnTo>
                        <a:pt x="6188" y="3835"/>
                      </a:lnTo>
                      <a:lnTo>
                        <a:pt x="10000" y="3835"/>
                      </a:lnTo>
                      <a:lnTo>
                        <a:pt x="6906" y="6165"/>
                      </a:lnTo>
                      <a:lnTo>
                        <a:pt x="8066" y="10000"/>
                      </a:lnTo>
                      <a:lnTo>
                        <a:pt x="5028" y="7669"/>
                      </a:lnTo>
                      <a:lnTo>
                        <a:pt x="1934" y="10000"/>
                      </a:lnTo>
                      <a:lnTo>
                        <a:pt x="3094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69"/>
              <p:cNvGrpSpPr/>
              <p:nvPr/>
            </p:nvGrpSpPr>
            <p:grpSpPr>
              <a:xfrm>
                <a:off x="4382640" y="3031560"/>
                <a:ext cx="269280" cy="197280"/>
                <a:chOff x="4382640" y="3031560"/>
                <a:chExt cx="269280" cy="197280"/>
              </a:xfrm>
            </p:grpSpPr>
            <p:sp>
              <p:nvSpPr>
                <p:cNvPr id="523" name="AutoShape 70"/>
                <p:cNvSpPr/>
                <p:nvPr/>
              </p:nvSpPr>
              <p:spPr>
                <a:xfrm>
                  <a:off x="4382640" y="303156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utoShape 71"/>
                <p:cNvSpPr/>
                <p:nvPr/>
              </p:nvSpPr>
              <p:spPr>
                <a:xfrm>
                  <a:off x="4426920" y="3071160"/>
                  <a:ext cx="179280" cy="1173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52"/>
                      </a:moveTo>
                      <a:lnTo>
                        <a:pt x="3812" y="3852"/>
                      </a:lnTo>
                      <a:lnTo>
                        <a:pt x="5028" y="0"/>
                      </a:lnTo>
                      <a:lnTo>
                        <a:pt x="6188" y="3852"/>
                      </a:lnTo>
                      <a:lnTo>
                        <a:pt x="10000" y="3852"/>
                      </a:lnTo>
                      <a:lnTo>
                        <a:pt x="6906" y="6148"/>
                      </a:lnTo>
                      <a:lnTo>
                        <a:pt x="8066" y="10000"/>
                      </a:lnTo>
                      <a:lnTo>
                        <a:pt x="5028" y="7630"/>
                      </a:lnTo>
                      <a:lnTo>
                        <a:pt x="1934" y="10000"/>
                      </a:lnTo>
                      <a:lnTo>
                        <a:pt x="3094" y="6148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5" name="Picture 72" descr="Picture4"/>
              <p:cNvPicPr/>
              <p:nvPr/>
            </p:nvPicPr>
            <p:blipFill>
              <a:blip r:embed="rId25"/>
              <a:stretch/>
            </p:blipFill>
            <p:spPr>
              <a:xfrm>
                <a:off x="334800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73" descr="Picture4"/>
              <p:cNvPicPr/>
              <p:nvPr/>
            </p:nvPicPr>
            <p:blipFill>
              <a:blip r:embed="rId26"/>
              <a:stretch/>
            </p:blipFill>
            <p:spPr>
              <a:xfrm>
                <a:off x="3932640" y="346572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74" descr="Picture4"/>
              <p:cNvPicPr/>
              <p:nvPr/>
            </p:nvPicPr>
            <p:blipFill>
              <a:blip r:embed="rId27"/>
              <a:stretch/>
            </p:blipFill>
            <p:spPr>
              <a:xfrm>
                <a:off x="4112280" y="437364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75" descr="Picture4"/>
              <p:cNvPicPr/>
              <p:nvPr/>
            </p:nvPicPr>
            <p:blipFill>
              <a:blip r:embed="rId28"/>
              <a:stretch/>
            </p:blipFill>
            <p:spPr>
              <a:xfrm>
                <a:off x="4292640" y="334656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76" descr="Picture4"/>
              <p:cNvPicPr/>
              <p:nvPr/>
            </p:nvPicPr>
            <p:blipFill>
              <a:blip r:embed="rId29"/>
              <a:stretch/>
            </p:blipFill>
            <p:spPr>
              <a:xfrm>
                <a:off x="249408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0" name="Group 77"/>
              <p:cNvGrpSpPr/>
              <p:nvPr/>
            </p:nvGrpSpPr>
            <p:grpSpPr>
              <a:xfrm>
                <a:off x="2719080" y="4255200"/>
                <a:ext cx="269280" cy="197280"/>
                <a:chOff x="2719080" y="4255200"/>
                <a:chExt cx="269280" cy="197280"/>
              </a:xfrm>
            </p:grpSpPr>
            <p:sp>
              <p:nvSpPr>
                <p:cNvPr id="531" name="AutoShape 78"/>
                <p:cNvSpPr/>
                <p:nvPr/>
              </p:nvSpPr>
              <p:spPr>
                <a:xfrm>
                  <a:off x="2719080" y="425520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79"/>
                <p:cNvSpPr/>
                <p:nvPr/>
              </p:nvSpPr>
              <p:spPr>
                <a:xfrm>
                  <a:off x="2763360" y="4296600"/>
                  <a:ext cx="17604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20" y="3835"/>
                      </a:lnTo>
                      <a:lnTo>
                        <a:pt x="5000" y="0"/>
                      </a:lnTo>
                      <a:lnTo>
                        <a:pt x="6180" y="3835"/>
                      </a:lnTo>
                      <a:lnTo>
                        <a:pt x="10000" y="3835"/>
                      </a:lnTo>
                      <a:lnTo>
                        <a:pt x="6910" y="6165"/>
                      </a:lnTo>
                      <a:lnTo>
                        <a:pt x="8090" y="10000"/>
                      </a:lnTo>
                      <a:lnTo>
                        <a:pt x="5000" y="7669"/>
                      </a:lnTo>
                      <a:lnTo>
                        <a:pt x="1910" y="10000"/>
                      </a:lnTo>
                      <a:lnTo>
                        <a:pt x="3090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AutoShape 80"/>
              <p:cNvSpPr/>
              <p:nvPr/>
            </p:nvSpPr>
            <p:spPr>
              <a:xfrm>
                <a:off x="3438360" y="4571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81"/>
              <p:cNvSpPr/>
              <p:nvPr/>
            </p:nvSpPr>
            <p:spPr>
              <a:xfrm>
                <a:off x="3393720" y="3860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82"/>
              <p:cNvSpPr/>
              <p:nvPr/>
            </p:nvSpPr>
            <p:spPr>
              <a:xfrm>
                <a:off x="2823480" y="33768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Picture 51" descr="Picture4"/>
              <p:cNvPicPr/>
              <p:nvPr/>
            </p:nvPicPr>
            <p:blipFill>
              <a:blip r:embed="rId30"/>
              <a:stretch/>
            </p:blipFill>
            <p:spPr>
              <a:xfrm>
                <a:off x="2549160" y="33645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AutoShape 82"/>
              <p:cNvSpPr/>
              <p:nvPr/>
            </p:nvSpPr>
            <p:spPr>
              <a:xfrm>
                <a:off x="3442680" y="31860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ypical standard curve for the T3 I-125 RIA kit"/>
          <p:cNvPicPr/>
          <p:nvPr/>
        </p:nvPicPr>
        <p:blipFill>
          <a:blip r:embed="rId1"/>
          <a:stretch/>
        </p:blipFill>
        <p:spPr>
          <a:xfrm>
            <a:off x="2155680" y="230040"/>
            <a:ext cx="3816360" cy="28418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3218040" y="3071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279520" y="117648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Typical standard curve for the Luteinizing Hormone (hLH) I-125 IRMA kit"/>
          <p:cNvPicPr/>
          <p:nvPr/>
        </p:nvPicPr>
        <p:blipFill>
          <a:blip r:embed="rId2"/>
          <a:stretch/>
        </p:blipFill>
        <p:spPr>
          <a:xfrm>
            <a:off x="6764400" y="301680"/>
            <a:ext cx="2808360" cy="26845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7307280" y="299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96"/>
          <p:cNvGrpSpPr/>
          <p:nvPr/>
        </p:nvGrpSpPr>
        <p:grpSpPr>
          <a:xfrm>
            <a:off x="7214400" y="3556080"/>
            <a:ext cx="2266920" cy="579600"/>
            <a:chOff x="7214400" y="3556080"/>
            <a:chExt cx="2266920" cy="579600"/>
          </a:xfrm>
        </p:grpSpPr>
        <p:sp>
          <p:nvSpPr>
            <p:cNvPr id="545" name="AutoShape 65"/>
            <p:cNvSpPr/>
            <p:nvPr/>
          </p:nvSpPr>
          <p:spPr>
            <a:xfrm>
              <a:off x="7950240" y="364788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65"/>
            <p:cNvSpPr/>
            <p:nvPr/>
          </p:nvSpPr>
          <p:spPr>
            <a:xfrm>
              <a:off x="9083880" y="363852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2"/>
            <p:cNvSpPr/>
            <p:nvPr/>
          </p:nvSpPr>
          <p:spPr>
            <a:xfrm>
              <a:off x="7214400" y="3556080"/>
              <a:ext cx="226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95"/>
          <p:cNvGrpSpPr/>
          <p:nvPr/>
        </p:nvGrpSpPr>
        <p:grpSpPr>
          <a:xfrm>
            <a:off x="2104200" y="3492360"/>
            <a:ext cx="3824280" cy="579600"/>
            <a:chOff x="2104200" y="3492360"/>
            <a:chExt cx="3824280" cy="579600"/>
          </a:xfrm>
        </p:grpSpPr>
        <p:sp>
          <p:nvSpPr>
            <p:cNvPr id="549" name="AutoShape 65"/>
            <p:cNvSpPr/>
            <p:nvPr/>
          </p:nvSpPr>
          <p:spPr>
            <a:xfrm>
              <a:off x="2225520" y="36385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65"/>
            <p:cNvSpPr/>
            <p:nvPr/>
          </p:nvSpPr>
          <p:spPr>
            <a:xfrm>
              <a:off x="4235400" y="36097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3"/>
            <p:cNvSpPr/>
            <p:nvPr/>
          </p:nvSpPr>
          <p:spPr>
            <a:xfrm>
              <a:off x="2104200" y="3492360"/>
              <a:ext cx="38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197"/>
          <p:cNvSpPr/>
          <p:nvPr/>
        </p:nvSpPr>
        <p:spPr>
          <a:xfrm>
            <a:off x="5216760" y="4149720"/>
            <a:ext cx="250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нд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876320" y="166680"/>
            <a:ext cx="830592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146760" y="32688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ам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738440" y="14241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797040" y="1101600"/>
            <a:ext cx="1002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радиоактивност у узорцим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о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а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тона кој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митују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ма (јамасти) бројач је сцинтилациони бројач који садржи удубљење «јаму» у које се постављају епрувете са узорцима за ин витро мерења. Основна предност овакве конструкције је повећана геометријска ефикасност бројања, зато што кристал окружује већи део 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9"/>
          <p:cNvGraphicFramePr/>
          <p:nvPr/>
        </p:nvGraphicFramePr>
        <p:xfrm>
          <a:off x="1820880" y="4390920"/>
          <a:ext cx="267480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4390920"/>
                    <a:ext cx="26748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0" name="Picture 7" descr="Well Type Detector"/>
          <p:cNvPicPr/>
          <p:nvPr/>
        </p:nvPicPr>
        <p:blipFill>
          <a:blip r:embed="rId3"/>
          <a:stretch/>
        </p:blipFill>
        <p:spPr>
          <a:xfrm>
            <a:off x="4727520" y="4191120"/>
            <a:ext cx="2044800" cy="2044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http://www.bcm.edu/physio/lab_pages/pedersen/equipment/cobra.jpg"/>
          <p:cNvPicPr/>
          <p:nvPr/>
        </p:nvPicPr>
        <p:blipFill>
          <a:blip r:embed="rId4"/>
          <a:stretch/>
        </p:blipFill>
        <p:spPr>
          <a:xfrm>
            <a:off x="7156440" y="3381480"/>
            <a:ext cx="2540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обичајени делови оптичких инструмената који се користе у УВ, видљивом и ИР региону су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Calibri"/>
                <a:ea typeface="Calibri"/>
              </a:rPr>
              <a:t>1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билан извор зрачењ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 монохроматор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) носач (држач) узорка (један или више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) детектор ЕМ зрачења (у већини случајева енергија ЕМ зрачења се претвара у електричну енергију) 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) део за обраду и очитавање сигнала (углавном је то рачунар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9F2-39AA-4C1B-B4EF-F18BAFE4423F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874600" y="33804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ЕТ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58960" y="1606680"/>
            <a:ext cx="900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 који мери радиоактивност у узорцима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чим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ет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з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8"/>
          <p:cNvGraphicFramePr/>
          <p:nvPr/>
        </p:nvGraphicFramePr>
        <p:xfrm>
          <a:off x="2022480" y="4064040"/>
          <a:ext cx="838836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4064040"/>
                    <a:ext cx="838836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135600" y="3268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ЛУОР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58800" y="1295280"/>
            <a:ext cx="1034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количину светлости која настаје ексцит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 светл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ик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ексц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ено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уоресц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"/>
          <p:cNvGrpSpPr/>
          <p:nvPr/>
        </p:nvGrpSpPr>
        <p:grpSpPr>
          <a:xfrm>
            <a:off x="1771560" y="3720960"/>
            <a:ext cx="4287600" cy="2955960"/>
            <a:chOff x="1771560" y="3720960"/>
            <a:chExt cx="4287600" cy="2955960"/>
          </a:xfrm>
        </p:grpSpPr>
        <p:grpSp>
          <p:nvGrpSpPr>
            <p:cNvPr id="569" name="Group 6"/>
            <p:cNvGrpSpPr/>
            <p:nvPr/>
          </p:nvGrpSpPr>
          <p:grpSpPr>
            <a:xfrm>
              <a:off x="1771560" y="3767400"/>
              <a:ext cx="3935160" cy="2772360"/>
              <a:chOff x="1771560" y="3767400"/>
              <a:chExt cx="3935160" cy="2772360"/>
            </a:xfrm>
          </p:grpSpPr>
          <p:grpSp>
            <p:nvGrpSpPr>
              <p:cNvPr id="570" name="Group 7"/>
              <p:cNvGrpSpPr/>
              <p:nvPr/>
            </p:nvGrpSpPr>
            <p:grpSpPr>
              <a:xfrm>
                <a:off x="1771560" y="3767400"/>
                <a:ext cx="3935160" cy="2772360"/>
                <a:chOff x="1771560" y="3767400"/>
                <a:chExt cx="3935160" cy="2772360"/>
              </a:xfrm>
            </p:grpSpPr>
            <p:grpSp>
              <p:nvGrpSpPr>
                <p:cNvPr id="571" name="Group 8"/>
                <p:cNvGrpSpPr/>
                <p:nvPr/>
              </p:nvGrpSpPr>
              <p:grpSpPr>
                <a:xfrm>
                  <a:off x="1771560" y="3767400"/>
                  <a:ext cx="3935160" cy="2772360"/>
                  <a:chOff x="1771560" y="3767400"/>
                  <a:chExt cx="3935160" cy="2772360"/>
                </a:xfrm>
              </p:grpSpPr>
              <p:sp>
                <p:nvSpPr>
                  <p:cNvPr id="572" name="Rectangle 9"/>
                  <p:cNvSpPr/>
                  <p:nvPr/>
                </p:nvSpPr>
                <p:spPr>
                  <a:xfrm>
                    <a:off x="1771560" y="3767400"/>
                    <a:ext cx="3935160" cy="2772360"/>
                  </a:xfrm>
                  <a:prstGeom prst="rect">
                    <a:avLst/>
                  </a:prstGeom>
                  <a:solidFill>
                    <a:srgbClr val="727ca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10"/>
                  <p:cNvSpPr/>
                  <p:nvPr/>
                </p:nvSpPr>
                <p:spPr>
                  <a:xfrm>
                    <a:off x="1972080" y="4008240"/>
                    <a:ext cx="0" cy="229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1"/>
                  <p:cNvSpPr/>
                  <p:nvPr/>
                </p:nvSpPr>
                <p:spPr>
                  <a:xfrm>
                    <a:off x="1972080" y="6299280"/>
                    <a:ext cx="3467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5" name="Freeform 12"/>
                <p:cNvSpPr/>
                <p:nvPr/>
              </p:nvSpPr>
              <p:spPr>
                <a:xfrm>
                  <a:off x="1972080" y="4043880"/>
                  <a:ext cx="1333800" cy="22104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2210400"/>
                    <a:gd name="textAreaBottom" fmla="*/ 2210760 h 2210400"/>
                  </a:gdLst>
                  <a:ahLst/>
                  <a:rect l="textAreaLeft" t="textAreaTop" r="textAreaRight" b="textAreaBottom"/>
                  <a:pathLst>
                    <a:path w="2400" h="3300">
                      <a:moveTo>
                        <a:pt x="0" y="3187"/>
                      </a:moveTo>
                      <a:cubicBezTo>
                        <a:pt x="250" y="3202"/>
                        <a:pt x="421" y="3180"/>
                        <a:pt x="600" y="3187"/>
                      </a:cubicBezTo>
                      <a:cubicBezTo>
                        <a:pt x="779" y="3194"/>
                        <a:pt x="946" y="3237"/>
                        <a:pt x="1072" y="3232"/>
                      </a:cubicBezTo>
                      <a:cubicBezTo>
                        <a:pt x="1198" y="3227"/>
                        <a:pt x="1304" y="3300"/>
                        <a:pt x="1357" y="3157"/>
                      </a:cubicBezTo>
                      <a:cubicBezTo>
                        <a:pt x="1410" y="3014"/>
                        <a:pt x="1360" y="2694"/>
                        <a:pt x="1387" y="2377"/>
                      </a:cubicBezTo>
                      <a:cubicBezTo>
                        <a:pt x="1414" y="2060"/>
                        <a:pt x="1473" y="1627"/>
                        <a:pt x="1522" y="1252"/>
                      </a:cubicBezTo>
                      <a:cubicBezTo>
                        <a:pt x="1571" y="877"/>
                        <a:pt x="1634" y="254"/>
                        <a:pt x="1680" y="127"/>
                      </a:cubicBezTo>
                      <a:cubicBezTo>
                        <a:pt x="1726" y="0"/>
                        <a:pt x="1786" y="300"/>
                        <a:pt x="1800" y="487"/>
                      </a:cubicBezTo>
                      <a:cubicBezTo>
                        <a:pt x="1814" y="674"/>
                        <a:pt x="1771" y="965"/>
                        <a:pt x="1762" y="1252"/>
                      </a:cubicBezTo>
                      <a:cubicBezTo>
                        <a:pt x="1753" y="1539"/>
                        <a:pt x="1747" y="1902"/>
                        <a:pt x="1747" y="2212"/>
                      </a:cubicBezTo>
                      <a:cubicBezTo>
                        <a:pt x="1747" y="2522"/>
                        <a:pt x="1653" y="2949"/>
                        <a:pt x="1762" y="3112"/>
                      </a:cubicBezTo>
                      <a:cubicBezTo>
                        <a:pt x="1871" y="3275"/>
                        <a:pt x="2267" y="3172"/>
                        <a:pt x="2400" y="318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Freeform 13"/>
              <p:cNvSpPr/>
              <p:nvPr/>
            </p:nvSpPr>
            <p:spPr>
              <a:xfrm>
                <a:off x="4573080" y="4108680"/>
                <a:ext cx="600120" cy="20901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090160"/>
                  <a:gd name="textAreaBottom" fmla="*/ 2090520 h 2090160"/>
                </a:gdLst>
                <a:ahLst/>
                <a:rect l="textAreaLeft" t="textAreaTop" r="textAreaRight" b="textAreaBottom"/>
                <a:pathLst>
                  <a:path w="1080" h="3120">
                    <a:moveTo>
                      <a:pt x="0" y="3090"/>
                    </a:moveTo>
                    <a:cubicBezTo>
                      <a:pt x="40" y="2910"/>
                      <a:pt x="80" y="2730"/>
                      <a:pt x="120" y="2550"/>
                    </a:cubicBezTo>
                    <a:cubicBezTo>
                      <a:pt x="160" y="2370"/>
                      <a:pt x="200" y="2310"/>
                      <a:pt x="240" y="2010"/>
                    </a:cubicBezTo>
                    <a:cubicBezTo>
                      <a:pt x="280" y="1710"/>
                      <a:pt x="300" y="1080"/>
                      <a:pt x="360" y="750"/>
                    </a:cubicBezTo>
                    <a:cubicBezTo>
                      <a:pt x="420" y="420"/>
                      <a:pt x="540" y="60"/>
                      <a:pt x="600" y="30"/>
                    </a:cubicBezTo>
                    <a:cubicBezTo>
                      <a:pt x="660" y="0"/>
                      <a:pt x="700" y="240"/>
                      <a:pt x="720" y="570"/>
                    </a:cubicBezTo>
                    <a:cubicBezTo>
                      <a:pt x="740" y="900"/>
                      <a:pt x="700" y="1620"/>
                      <a:pt x="720" y="2010"/>
                    </a:cubicBezTo>
                    <a:cubicBezTo>
                      <a:pt x="740" y="2400"/>
                      <a:pt x="800" y="2730"/>
                      <a:pt x="840" y="2910"/>
                    </a:cubicBezTo>
                    <a:cubicBezTo>
                      <a:pt x="880" y="3090"/>
                      <a:pt x="920" y="3060"/>
                      <a:pt x="960" y="3090"/>
                    </a:cubicBezTo>
                    <a:cubicBezTo>
                      <a:pt x="1000" y="3120"/>
                      <a:pt x="1040" y="3105"/>
                      <a:pt x="1080" y="30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 Box 14"/>
            <p:cNvSpPr/>
            <p:nvPr/>
          </p:nvSpPr>
          <p:spPr>
            <a:xfrm>
              <a:off x="4468680" y="6308640"/>
              <a:ext cx="1015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5"/>
            <p:cNvSpPr/>
            <p:nvPr/>
          </p:nvSpPr>
          <p:spPr>
            <a:xfrm>
              <a:off x="2346480" y="6308640"/>
              <a:ext cx="14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ксцита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6"/>
            <p:cNvSpPr/>
            <p:nvPr/>
          </p:nvSpPr>
          <p:spPr>
            <a:xfrm>
              <a:off x="4513680" y="6306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мис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4778640" y="3720960"/>
              <a:ext cx="128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8"/>
            <p:cNvSpPr/>
            <p:nvPr/>
          </p:nvSpPr>
          <p:spPr>
            <a:xfrm>
              <a:off x="2787120" y="376848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9"/>
            <p:cNvSpPr/>
            <p:nvPr/>
          </p:nvSpPr>
          <p:spPr>
            <a:xfrm>
              <a:off x="2920680" y="4367880"/>
              <a:ext cx="19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3143160" y="436572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s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м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4" name="Object 8"/>
          <p:cNvGraphicFramePr/>
          <p:nvPr/>
        </p:nvGraphicFramePr>
        <p:xfrm>
          <a:off x="6126120" y="4060800"/>
          <a:ext cx="435924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6120" y="4060800"/>
                    <a:ext cx="435924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140280" y="32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ФОТОМЕТ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41320" y="1508040"/>
            <a:ext cx="103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миј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4017960" y="2454120"/>
          <a:ext cx="433872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2454120"/>
                    <a:ext cx="433872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3156840" y="326880"/>
            <a:ext cx="41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ПЕКТРОФОТО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1919160" y="1413000"/>
            <a:ext cx="82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фракц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лази кро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твор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 речима, овај уређај мери количину светлости која је прошла кроз, односно индиректно мери количину апсорбоване светлости у узо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6881760" y="4562640"/>
            <a:ext cx="3633840" cy="1595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2"/>
          <a:stretch/>
        </p:blipFill>
        <p:spPr>
          <a:xfrm>
            <a:off x="1828800" y="4564080"/>
            <a:ext cx="4896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решка мерењ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5" name="Content Placeholder 3" descr=""/>
          <p:cNvPicPr/>
          <p:nvPr/>
        </p:nvPicPr>
        <p:blipFill>
          <a:blip r:embed="rId1"/>
          <a:stretch/>
        </p:blipFill>
        <p:spPr>
          <a:xfrm>
            <a:off x="2092320" y="2174760"/>
            <a:ext cx="1584360" cy="21560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4168800" y="23652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=100, грешка 0.1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 =10000, грешка 0.01 (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рење треба да траје довољно дуго да грешка мерења буде у прихватљивом опс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КОНТРОЛА КВАЛИТЕТА  (QC, Quality Control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ЧНОСТ : колико је измерена концентрација блиска реалној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ФИЧНОСТ : има ли интерференције са сличним супстанца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НЗИТИВНОСТ: колика је најмања детектабилна концентрац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ЦИЗНОСТ : ≈ репродуцибилност; ниска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-a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a-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ријабилност (&lt; 10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2003400" y="3549600"/>
            <a:ext cx="6224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940200" y="32544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ТАЧНОСТ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РЕЦИЗ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File:High accuracy Low precisi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656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File:High precision Low accuracy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70920" y="3162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2"/>
          <p:cNvSpPr/>
          <p:nvPr/>
        </p:nvSpPr>
        <p:spPr>
          <a:xfrm>
            <a:off x="3012120" y="504684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6954840" y="507528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File:Accuracy and precision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00360" y="789120"/>
            <a:ext cx="4667400" cy="25128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1">
            <a:hlinkClick r:id="rId7"/>
          </p:cNvPr>
          <p:cNvSpPr/>
          <p:nvPr/>
        </p:nvSpPr>
        <p:spPr>
          <a:xfrm>
            <a:off x="15238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5969160" y="41590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3935520" y="907920"/>
            <a:ext cx="2232000" cy="32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3071880" y="90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CV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"/>
          <p:cNvSpPr/>
          <p:nvPr/>
        </p:nvSpPr>
        <p:spPr>
          <a:xfrm>
            <a:off x="4025880" y="2276640"/>
            <a:ext cx="2070000" cy="82692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168" h="430">
                <a:moveTo>
                  <a:pt x="0" y="217"/>
                </a:moveTo>
                <a:cubicBezTo>
                  <a:pt x="22" y="239"/>
                  <a:pt x="93" y="313"/>
                  <a:pt x="134" y="341"/>
                </a:cubicBezTo>
                <a:cubicBezTo>
                  <a:pt x="175" y="369"/>
                  <a:pt x="194" y="373"/>
                  <a:pt x="249" y="383"/>
                </a:cubicBezTo>
                <a:cubicBezTo>
                  <a:pt x="304" y="393"/>
                  <a:pt x="365" y="404"/>
                  <a:pt x="465" y="401"/>
                </a:cubicBezTo>
                <a:cubicBezTo>
                  <a:pt x="565" y="398"/>
                  <a:pt x="733" y="430"/>
                  <a:pt x="850" y="363"/>
                </a:cubicBezTo>
                <a:cubicBezTo>
                  <a:pt x="967" y="296"/>
                  <a:pt x="1115" y="60"/>
                  <a:pt x="116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008600" y="33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ил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340160" y="3005280"/>
            <a:ext cx="0" cy="1131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"/>
          <p:cNvSpPr/>
          <p:nvPr/>
        </p:nvSpPr>
        <p:spPr>
          <a:xfrm>
            <a:off x="5500800" y="3019320"/>
            <a:ext cx="1440" cy="110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0"/>
          <p:cNvSpPr/>
          <p:nvPr/>
        </p:nvSpPr>
        <p:spPr>
          <a:xfrm>
            <a:off x="4314960" y="2995560"/>
            <a:ext cx="1185840" cy="1147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747" h="723">
                <a:moveTo>
                  <a:pt x="15" y="711"/>
                </a:moveTo>
                <a:lnTo>
                  <a:pt x="15" y="0"/>
                </a:lnTo>
                <a:lnTo>
                  <a:pt x="159" y="36"/>
                </a:lnTo>
                <a:lnTo>
                  <a:pt x="264" y="39"/>
                </a:lnTo>
                <a:lnTo>
                  <a:pt x="432" y="45"/>
                </a:lnTo>
                <a:lnTo>
                  <a:pt x="573" y="45"/>
                </a:lnTo>
                <a:lnTo>
                  <a:pt x="684" y="33"/>
                </a:lnTo>
                <a:lnTo>
                  <a:pt x="744" y="6"/>
                </a:lnTo>
                <a:lnTo>
                  <a:pt x="747" y="720"/>
                </a:lnTo>
                <a:lnTo>
                  <a:pt x="0" y="723"/>
                </a:lnTo>
                <a:lnTo>
                  <a:pt x="15" y="711"/>
                </a:lnTo>
                <a:close/>
              </a:path>
            </a:pathLst>
          </a:custGeom>
          <a:solidFill>
            <a:srgbClr val="0033cc">
              <a:alpha val="6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978360" y="4192560"/>
            <a:ext cx="22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до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ор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094200" y="546732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GLP, Good Laboratory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1228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FAKTORI KOJI UTIČU NA</a:t>
            </a: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LABORATORIJSKE NALA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18" name="Content Placeholder 3" descr=""/>
          <p:cNvPicPr/>
          <p:nvPr/>
        </p:nvPicPr>
        <p:blipFill>
          <a:blip r:embed="rId1"/>
          <a:srcRect l="32220" t="18768" r="17219" b="12332"/>
          <a:stretch/>
        </p:blipFill>
        <p:spPr>
          <a:xfrm>
            <a:off x="1938240" y="1141560"/>
            <a:ext cx="73519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20" name="Content Placeholder 3" descr=""/>
          <p:cNvPicPr/>
          <p:nvPr/>
        </p:nvPicPr>
        <p:blipFill>
          <a:blip r:embed="rId1"/>
          <a:srcRect l="34860" t="35808" r="19996" b="44192"/>
          <a:stretch/>
        </p:blipFill>
        <p:spPr>
          <a:xfrm>
            <a:off x="2646360" y="1536840"/>
            <a:ext cx="7238880" cy="1803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rcRect l="43100" t="58135" r="31201" b="19111"/>
          <a:stretch/>
        </p:blipFill>
        <p:spPr>
          <a:xfrm>
            <a:off x="4048200" y="3852720"/>
            <a:ext cx="31338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Шематски приказ заједничких делова инструмената који се користе у оптичкој спектроскопији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0C0-A4BE-4733-874A-92DC773128C1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638520" y="1219320"/>
            <a:ext cx="4203720" cy="49338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2467080" y="6292800"/>
            <a:ext cx="73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флуоресцне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емисиона спектроскоп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243080" y="3005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Cambria"/>
              </a:rPr>
              <a:t>Извори зрачења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52600" y="1327320"/>
            <a:ext cx="10191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зрачења су саставни део сваког апарата који се користи у оптичким метода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врсти емитованог спектра, извори зрачења се деле на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континуал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дисконтинуалан спекта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9CCB-26CC-4200-8843-2BCC99EA2F4B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71520" y="1390320"/>
            <a:ext cx="9820080" cy="47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инуални спектар је окарактерисан непрекидном расподелом енергије у широком интервалу таласних дужина без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сконтинуални спектар  се састоји од низа одвојених, мање или више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тра граница између ове две врсте извора не постоји јер има извора који у једној области таласних дужина емитују континуални спектар а у другој дисконтинуални (водонична ламп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737-A095-4696-8C17-7FFB0A60109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61440" y="1447560"/>
            <a:ext cx="109918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апсорпционих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етод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онтинуални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емисионих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дисконтинуални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в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актеришу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спектрално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подел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рактеро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њене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временск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F10-A3F6-4F40-B02F-C9296D08244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8120" y="1251000"/>
            <a:ext cx="11615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аксиму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мисиј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помер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нижим</a:t>
            </a: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ласни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ужинам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усијаном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телу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те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W</a:t>
            </a:r>
            <a:r>
              <a:rPr b="1" lang="sr-Latn-RS" sz="2400" spc="-1" strike="noStrike">
                <a:solidFill>
                  <a:srgbClr val="464653"/>
                </a:solidFill>
                <a:latin typeface="Gill Sans MT"/>
              </a:rPr>
              <a:t>ien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-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ов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кон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мера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52388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6531120" y="1935000"/>
          <a:ext cx="228744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1120" y="1935000"/>
                    <a:ext cx="228744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Slide Number Placeholder 4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89B-466C-4CC9-AFCA-C2CED071425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rnotelo"/>
          <p:cNvPicPr/>
          <p:nvPr/>
        </p:nvPicPr>
        <p:blipFill>
          <a:blip r:embed="rId3"/>
          <a:stretch/>
        </p:blipFill>
        <p:spPr>
          <a:xfrm>
            <a:off x="4876920" y="3713040"/>
            <a:ext cx="4881600" cy="2927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35040" y="3118320"/>
            <a:ext cx="109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64653"/>
                </a:solidFill>
                <a:latin typeface="Comic Sans MS"/>
                <a:ea typeface="Arial"/>
              </a:rPr>
              <a:t>Spektralna raspodel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zra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č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ja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rnog te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lanck-ovoj for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снива се на интеракцији електромагнетног зрачења и супстанц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лекул ће апсорбовати фотон ако је његова енергија једнака разлици два енергетска тања у молекули, након тог догађаја мења се стање молекула, расподела електрона, електрични диполни момент, магнетни момент језгра или електро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 свакој методи спектроскопије могуће су интеракције фотона оних енергија које су одрђене структуром и својствима молекуларног система узор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7:04:49Z</dcterms:created>
  <dc:creator>Milovan D. Matovic</dc:creator>
  <dc:description/>
  <dc:language>en-US</dc:language>
  <cp:lastModifiedBy>Windows User</cp:lastModifiedBy>
  <dcterms:modified xsi:type="dcterms:W3CDTF">2024-09-02T10:55:53Z</dcterms:modified>
  <cp:revision>360</cp:revision>
  <dc:subject/>
  <dc:title>Slide 1</dc:title>
</cp:coreProperties>
</file>